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71B8-4300-4544-95EC-594FF2D75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F101-B865-4B82-B97A-BA2EA670A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66B4-0981-453F-9403-66DEE1FD7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DE30-4461-42F1-9A64-CCB247111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EFB53-8F10-4FE3-9E8E-B716F89D9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8844E-2A33-4F25-87C6-34DD34595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DE9D9-6086-4E57-B6D3-8B143D4E8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CBAC9-AEA0-4FE0-AA2D-D8F3BEE5E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18E79-A6C3-4132-81F7-D95EED804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FDA8F-8ED1-4BFC-905C-B451A0CF7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B8723-0639-47FA-B17F-5ABFAF11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345B-F3DE-4128-A9E8-F71C41869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AB2E6-3903-4279-A5DD-B6E29BD3D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E41B3-0FD9-4C6D-89FB-3506B6DF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24BB6-E2D1-4C87-B572-A8380DF23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B203A-117C-4104-B652-29637F2DD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D33DC-DCED-4283-95BF-CAD25B9C3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9FE4-D05E-45C6-A026-C2563FA3D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2677-9C34-41D0-8DB4-A2D3B51ED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22E5-8C78-4FA1-B558-8CAA175AA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299E-06D6-4213-9064-D4D3EDF33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821F-1DBF-479E-93DB-48BBDA1E3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44FC-32A3-4B0A-BB53-934A04678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8297-11F0-4772-9A44-9E4B38C5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9252B-AD17-44F7-BA8F-BBEEB471C0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D6EE2-AA11-4854-A58C-CBA018E05E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DOA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2133720"/>
            <a:ext cx="67816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ish the analogi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llard : Duck :: ______ : tr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ake : ______ :: motor : ru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Freewrit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2742840"/>
            <a:ext cx="80074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non-stop until the buzzer goes of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ake out your homework sentences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iew/read some of them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nk about if the sentences make sen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 no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Exercise 1: Which of the two terms makes the sentence correct? Enter the correct word on your paper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n’t it a pity that this beautiful edifice is going to be ____________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A) raised (B) raz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ndra should have been _________ for being punctu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 commended (B) repriman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  When it comes into power, a despotic government usually ___________ freedom of speech and pr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A) bans (B) perm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you _______, there is nothing to dispu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 dissent (B) conc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n’t you sometimes wished that you could retract something you __________ you had sai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 regretted (B) wish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4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4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5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8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b7"/>
                </a:solidFill>
                <a:latin typeface="Arial Black"/>
              </a:rPr>
              <a:t>Exercise 2: On your paper, write the correct letter from column 2 that matches column 1.</a:t>
            </a:r>
            <a:endParaRPr b="1" lang="en-US" sz="2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724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uct (into a club or societ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special ceremon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ressive buil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storical peri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ding pl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ressive do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ount from a particul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ewpoi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thout a backb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ker’s doz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thless d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ack flag with white skull a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ossb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11430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lumn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05720" y="121932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lumn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1752480"/>
            <a:ext cx="274320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inel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r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te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olly Ro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r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f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Exercise 3: Each word or expression in column 1 has an ANTONYM (or opposite) in column 2. On your paper, enter the letter of the correct ANTONYM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afra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nsu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iled to s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mocrat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rv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all gro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d not withdra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argued ab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152388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lumn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62720" y="2286000"/>
            <a:ext cx="304776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oll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ceiv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ltitu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pu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trac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mend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oro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municat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spot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486400" y="1600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lumn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Final exercise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2133720"/>
            <a:ext cx="67816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oose five words and draw/cut out pictures to create some kind of visual example of what the word means. (Make sure all drawings are appropriate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06:37:57Z</dcterms:created>
  <dc:creator>Angie</dc:creator>
  <dc:description/>
  <dc:language>en-US</dc:language>
  <cp:lastModifiedBy>rebecca</cp:lastModifiedBy>
  <dcterms:modified xsi:type="dcterms:W3CDTF">2009-01-07T20:08:43Z</dcterms:modified>
  <cp:revision>3</cp:revision>
  <dc:subject/>
  <dc:title> DOA</dc:title>
</cp:coreProperties>
</file>